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EAD6-F49C-482C-9FCB-D717ED2B86B3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236520" y="6516360"/>
            <a:ext cx="2509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ec7c0"/>
                </a:solidFill>
                <a:latin typeface="Arial"/>
                <a:ea typeface="Arial"/>
              </a:rPr>
              <a:t>© 2006 SolidWorks Corp. Confidential.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" name="Picture 7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17D6-A5AC-43A5-9278-87F6CAA40464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1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0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18" name="Rectangle 10"/>
          <p:cNvGrpSpPr/>
          <p:nvPr/>
        </p:nvGrpSpPr>
        <p:grpSpPr>
          <a:xfrm>
            <a:off x="6303960" y="6303960"/>
            <a:ext cx="2852640" cy="573120"/>
            <a:chOff x="6303960" y="6303960"/>
            <a:chExt cx="2852640" cy="573120"/>
          </a:xfrm>
        </p:grpSpPr>
        <p:pic>
          <p:nvPicPr>
            <p:cNvPr id="41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3960" y="6303960"/>
              <a:ext cx="28526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6307200" y="6308640"/>
              <a:ext cx="284472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2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3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3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5AF3-5314-4BC3-B3CA-5D81AF0E5931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0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66" name="Rectangle 10"/>
          <p:cNvGrpSpPr/>
          <p:nvPr/>
        </p:nvGrpSpPr>
        <p:grpSpPr>
          <a:xfrm>
            <a:off x="6303960" y="6303960"/>
            <a:ext cx="2852640" cy="573120"/>
            <a:chOff x="6303960" y="6303960"/>
            <a:chExt cx="2852640" cy="573120"/>
          </a:xfrm>
        </p:grpSpPr>
        <p:pic>
          <p:nvPicPr>
            <p:cNvPr id="46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3960" y="6303960"/>
              <a:ext cx="28526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6307200" y="6308640"/>
              <a:ext cx="284472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6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70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221A-4B29-4320-8399-A9C5889C2DC0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0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12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0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13" name="Rectangle 10"/>
          <p:cNvGrpSpPr/>
          <p:nvPr/>
        </p:nvGrpSpPr>
        <p:grpSpPr>
          <a:xfrm>
            <a:off x="6303960" y="6303960"/>
            <a:ext cx="2852640" cy="573120"/>
            <a:chOff x="6303960" y="6303960"/>
            <a:chExt cx="2852640" cy="573120"/>
          </a:xfrm>
        </p:grpSpPr>
        <p:pic>
          <p:nvPicPr>
            <p:cNvPr id="514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3960" y="6303960"/>
              <a:ext cx="28526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6307200" y="6308640"/>
              <a:ext cx="284472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16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1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B7AF-D07A-4BBA-BAEF-F397460E41B3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5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5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0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60" name="Rectangle 10"/>
          <p:cNvGrpSpPr/>
          <p:nvPr/>
        </p:nvGrpSpPr>
        <p:grpSpPr>
          <a:xfrm>
            <a:off x="6303960" y="6303960"/>
            <a:ext cx="2852640" cy="573120"/>
            <a:chOff x="6303960" y="6303960"/>
            <a:chExt cx="2852640" cy="573120"/>
          </a:xfrm>
        </p:grpSpPr>
        <p:pic>
          <p:nvPicPr>
            <p:cNvPr id="56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3960" y="6303960"/>
              <a:ext cx="28526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6307200" y="6308640"/>
              <a:ext cx="284472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6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13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5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9D2A-8B38-439B-AF73-2BE47CB98629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0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0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0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08" name="Rectangle 10"/>
          <p:cNvGrpSpPr/>
          <p:nvPr/>
        </p:nvGrpSpPr>
        <p:grpSpPr>
          <a:xfrm>
            <a:off x="6303960" y="6303960"/>
            <a:ext cx="2852640" cy="573120"/>
            <a:chOff x="6303960" y="6303960"/>
            <a:chExt cx="2852640" cy="573120"/>
          </a:xfrm>
        </p:grpSpPr>
        <p:pic>
          <p:nvPicPr>
            <p:cNvPr id="60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3960" y="6303960"/>
              <a:ext cx="28526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6307200" y="6308640"/>
              <a:ext cx="284472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1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AFA3-2C52-474E-BD1C-35B9714E20E9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0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8" name="Rectangle 10"/>
          <p:cNvGrpSpPr/>
          <p:nvPr/>
        </p:nvGrpSpPr>
        <p:grpSpPr>
          <a:xfrm>
            <a:off x="6303960" y="6303960"/>
            <a:ext cx="2852640" cy="573120"/>
            <a:chOff x="6303960" y="6303960"/>
            <a:chExt cx="2852640" cy="573120"/>
          </a:xfrm>
        </p:grpSpPr>
        <p:pic>
          <p:nvPicPr>
            <p:cNvPr id="4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3960" y="6303960"/>
              <a:ext cx="28526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307200" y="6308640"/>
              <a:ext cx="284472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3240" y="12600"/>
            <a:ext cx="9140760" cy="6854760"/>
            <a:chOff x="3240" y="12600"/>
            <a:chExt cx="9140760" cy="6854760"/>
          </a:xfrm>
        </p:grpSpPr>
        <p:pic>
          <p:nvPicPr>
            <p:cNvPr id="89" name="Picture 3" descr="12173-SolidWorks-cov"/>
            <p:cNvPicPr/>
            <p:nvPr/>
          </p:nvPicPr>
          <p:blipFill>
            <a:blip r:embed="rId2"/>
            <a:stretch/>
          </p:blipFill>
          <p:spPr>
            <a:xfrm>
              <a:off x="3240" y="12600"/>
              <a:ext cx="914076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4"/>
            <p:cNvSpPr/>
            <p:nvPr/>
          </p:nvSpPr>
          <p:spPr>
            <a:xfrm>
              <a:off x="6370560" y="6304680"/>
              <a:ext cx="24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9c8e80"/>
                  </a:solidFill>
                  <a:latin typeface="Arial"/>
                </a:rPr>
                <a:t>Image courtesy of National Optical Astronomy Observatory, operated by the Association of Universities for Research in Astronomy, under cooperative agreement with the National Science Foundation.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91" name="Picture 5" descr="swlogcol"/>
            <p:cNvPicPr/>
            <p:nvPr/>
          </p:nvPicPr>
          <p:blipFill>
            <a:blip r:embed="rId3"/>
            <a:stretch/>
          </p:blipFill>
          <p:spPr>
            <a:xfrm>
              <a:off x="7437600" y="442800"/>
              <a:ext cx="1338120" cy="73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90AE-91F5-4824-A972-84001354C010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1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0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4" name="Rectangle 10"/>
          <p:cNvGrpSpPr/>
          <p:nvPr/>
        </p:nvGrpSpPr>
        <p:grpSpPr>
          <a:xfrm>
            <a:off x="6303960" y="6303960"/>
            <a:ext cx="2852640" cy="573120"/>
            <a:chOff x="6303960" y="6303960"/>
            <a:chExt cx="2852640" cy="573120"/>
          </a:xfrm>
        </p:grpSpPr>
        <p:pic>
          <p:nvPicPr>
            <p:cNvPr id="135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3960" y="6303960"/>
              <a:ext cx="28526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307200" y="6308640"/>
              <a:ext cx="284472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37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138" name="Image 8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5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293C-B7A1-4C3A-9892-137418D93B2F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7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0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2" name="Rectangle 10"/>
          <p:cNvGrpSpPr/>
          <p:nvPr/>
        </p:nvGrpSpPr>
        <p:grpSpPr>
          <a:xfrm>
            <a:off x="6303960" y="6303960"/>
            <a:ext cx="2852640" cy="573120"/>
            <a:chOff x="6303960" y="6303960"/>
            <a:chExt cx="2852640" cy="573120"/>
          </a:xfrm>
        </p:grpSpPr>
        <p:pic>
          <p:nvPicPr>
            <p:cNvPr id="18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3960" y="6303960"/>
              <a:ext cx="28526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307200" y="6308640"/>
              <a:ext cx="284472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8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3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EA87-55B8-4561-A261-7F5CB15258B0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6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0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29" name="Rectangle 10"/>
          <p:cNvGrpSpPr/>
          <p:nvPr/>
        </p:nvGrpSpPr>
        <p:grpSpPr>
          <a:xfrm>
            <a:off x="6303960" y="6303960"/>
            <a:ext cx="2852640" cy="573120"/>
            <a:chOff x="6303960" y="6303960"/>
            <a:chExt cx="2852640" cy="573120"/>
          </a:xfrm>
        </p:grpSpPr>
        <p:pic>
          <p:nvPicPr>
            <p:cNvPr id="230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3960" y="6303960"/>
              <a:ext cx="28526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307200" y="6308640"/>
              <a:ext cx="284472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32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233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9177-BB2C-43B8-8BC8-0ED4EB672403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0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76" name="Rectangle 10"/>
          <p:cNvGrpSpPr/>
          <p:nvPr/>
        </p:nvGrpSpPr>
        <p:grpSpPr>
          <a:xfrm>
            <a:off x="6303960" y="6303960"/>
            <a:ext cx="2852640" cy="573120"/>
            <a:chOff x="6303960" y="6303960"/>
            <a:chExt cx="2852640" cy="573120"/>
          </a:xfrm>
        </p:grpSpPr>
        <p:pic>
          <p:nvPicPr>
            <p:cNvPr id="27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3960" y="6303960"/>
              <a:ext cx="28526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307200" y="6308640"/>
              <a:ext cx="284472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7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13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55C2-3C90-4D99-8EC8-BBB85AA32480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20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0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23" name="Rectangle 10"/>
          <p:cNvGrpSpPr/>
          <p:nvPr/>
        </p:nvGrpSpPr>
        <p:grpSpPr>
          <a:xfrm>
            <a:off x="6303960" y="6303960"/>
            <a:ext cx="2852640" cy="573120"/>
            <a:chOff x="6303960" y="6303960"/>
            <a:chExt cx="2852640" cy="573120"/>
          </a:xfrm>
        </p:grpSpPr>
        <p:pic>
          <p:nvPicPr>
            <p:cNvPr id="324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3960" y="6303960"/>
              <a:ext cx="28526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6307200" y="6308640"/>
              <a:ext cx="284472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26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3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28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F68A-C1E8-4035-AF9D-1CA18E5B26BA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68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0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71" name="Rectangle 10"/>
          <p:cNvGrpSpPr/>
          <p:nvPr/>
        </p:nvGrpSpPr>
        <p:grpSpPr>
          <a:xfrm>
            <a:off x="6303960" y="6303960"/>
            <a:ext cx="2852640" cy="573120"/>
            <a:chOff x="6303960" y="6303960"/>
            <a:chExt cx="2852640" cy="573120"/>
          </a:xfrm>
        </p:grpSpPr>
        <p:pic>
          <p:nvPicPr>
            <p:cNvPr id="372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3960" y="6303960"/>
              <a:ext cx="28526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6307200" y="6308640"/>
              <a:ext cx="284472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74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75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103480" y="1441440"/>
            <a:ext cx="65008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575f"/>
                </a:solidFill>
                <a:latin typeface="Arial Narrow"/>
              </a:rPr>
              <a:t>SolidWorks Flow Simulation</a:t>
            </a:r>
            <a:endParaRPr b="1" lang="en-US" sz="36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410920" y="2060280"/>
            <a:ext cx="6193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structor Guide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Physical Features taken into Accoun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Both steady-state and time-dependent problems can be solved. Time-dependent equations are solved by employing local time step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lows of incompressible and compressible viscous heat-conducting multi-species liquids and non-Newtonian liquids can be calculat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ub-, trans-, and supersonic compressible flows of viscous heat-conducting multi-species gases can be calculat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gions with different types of fluid in one mode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Physical Features taken into Accoun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Heat conduction in solids and heat radiation between to and from solids can be calculated simultaneous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Heat sources can be specified at surfaces and in volum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Gravitational effects can be taken into accou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Porous media can be specified as a distributed drag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urface-to-surface heat radiation and radiation to ambi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Global and local rotating reference fram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Physical Features taken into Accoun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ater vapor condensat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alculation of relative humidit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Heat sink simulat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rmoelectric (Peltier) cooler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avitation in a water flow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nalysis Background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ime-dependent Reynolds-averaged 3D Navier-Stokes equations using the k-e turbulence mode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Boundary layer modeling technology for valid laminar, turbulent or transitional boundary layers. Modeling of friction, heat transfer and flow separat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Heat conductivity equation in solid, surface-to-surface radiation heat transfer, conjugate solution of heat transfer phenomena in solid, fluid and ambient spac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vanced Numerical Technologi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utomatic meshing tools allows to create mesh for any arbitrary 3D mode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mplicit solver with multigri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utomatic tools for convergence analysis and stopping the calculat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dvanced technologies for result processing and 3D visualizat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utomatic resolution of model and flow field peculiariti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Goals of Analysi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alculation of flow field parameters (pressure, temperature, density, velocity, concentrations, etc.) at any point, surface or volume of computational domai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alculation of temperature at every point in the mode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alculation of transient phenomena throughout the flow fiel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alculation of forces and moments, aerodynamic coefficients. Calculation of shear stress distribution produced by the flow fiel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Goals of Analysi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alculation of mass and volume flow rates through your devic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termination of pressure drops, hydraulic resistanc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alculation of heat flows, heat transfer coefficien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alculation of particles trajectories in the flow field and parameters of particle interaction with the mode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eshing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eshing subdivides the model and the fluid volume into many small pieces called cell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maller cells give more accurate results but require more computer resourc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You must remesh the model after any change of geometry. Material and boundary condition parameters changes do not require remeshing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utomatic meshing system will create mesh in accordance with the specified minimum gap size, minimum wall thickness, result resolution leve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unning Analysi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uring analysis, the program iterates towards a solution. SolidWorks Flow Simulation provides advanced easy-to-use tools to analyze convergence, calculation results, or evolution of transient analysis results in time as well as tools to preview the results without stopping the analysi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olidWorks Flow Simulation has a state-of-the-art, fast, accurate and stable solver.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olidWorks Flow Simulation has an automatic system for stopping the analysis when it meets predefined convergence criteria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Visualizing Resul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olidWorks Flow Simulation provides advanced easy-to use tools to visualize the results: Cut, 3D-Profile and Surface Plots (contours, isolines, vectors), Isosurfaces, XY plots, Flow and Particle Trajectories, Animation of Resul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olidWorks Flow Simulation provides advanced tools to process the results: Point, Surface and Volume Parameters, Plots of Goals, MS Word Repor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What is SolidWorks Flow Simulation?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olidWorks Flow Simulation is a fluid flow and heat transfer analysis software fully integrated in SolidWork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olidWorks Flow Simulation simulates the testing of your model's prototype in its working fluid environment. It helps you to answer the question: What are the fluid flow effects on the prototype and the prototype's effects on the fluid flow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olidWorks Flow Simulation is used by students, designers, analysts, engineers, and other professionals to produce highly efficient designs and/or optimize their performanc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99640" y="401400"/>
            <a:ext cx="79390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Cycle with SolidWorks </a:t>
            </a:r>
            <a:br>
              <a:rPr sz="3000"/>
            </a:b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Flow Simulation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04920" y="1371240"/>
            <a:ext cx="548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Use SolidWorks to build the mode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Use SolidWorks Flow Simulation to simulate the object’s fluid environment and thermal effec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Based on results, modify the model and simulate until you are satisfied with the desig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nufacture the mode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6" name="AutoShape 6"/>
          <p:cNvSpPr/>
          <p:nvPr/>
        </p:nvSpPr>
        <p:spPr>
          <a:xfrm>
            <a:off x="6400800" y="838080"/>
            <a:ext cx="1447920" cy="609840"/>
          </a:xfrm>
          <a:prstGeom prst="flowChartAlternateProcess">
            <a:avLst/>
          </a:prstGeom>
          <a:noFill/>
          <a:ln w="19080">
            <a:solidFill>
              <a:srgbClr val="4b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olidWork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7" name="AutoShape 7"/>
          <p:cNvSpPr/>
          <p:nvPr/>
        </p:nvSpPr>
        <p:spPr>
          <a:xfrm>
            <a:off x="5791320" y="1905120"/>
            <a:ext cx="2895480" cy="533160"/>
          </a:xfrm>
          <a:prstGeom prst="flowChartAlternateProcess">
            <a:avLst/>
          </a:prstGeom>
          <a:noFill/>
          <a:ln w="19080">
            <a:solidFill>
              <a:srgbClr val="4b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olidWorks Flow Simul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8" name="AutoShape 8"/>
          <p:cNvSpPr/>
          <p:nvPr/>
        </p:nvSpPr>
        <p:spPr>
          <a:xfrm>
            <a:off x="6400800" y="2971800"/>
            <a:ext cx="1371600" cy="533520"/>
          </a:xfrm>
          <a:prstGeom prst="flowChartAlternateProcess">
            <a:avLst/>
          </a:prstGeom>
          <a:noFill/>
          <a:ln w="19080">
            <a:solidFill>
              <a:srgbClr val="4b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nalyz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9" name="AutoShape 9"/>
          <p:cNvSpPr/>
          <p:nvPr/>
        </p:nvSpPr>
        <p:spPr>
          <a:xfrm>
            <a:off x="6324480" y="3962520"/>
            <a:ext cx="1524240" cy="1066680"/>
          </a:xfrm>
          <a:prstGeom prst="flowChartDecision">
            <a:avLst/>
          </a:prstGeom>
          <a:noFill/>
          <a:ln w="19080">
            <a:solidFill>
              <a:srgbClr val="4b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atisfied?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6095880" y="5486400"/>
            <a:ext cx="1981440" cy="533520"/>
          </a:xfrm>
          <a:prstGeom prst="rect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1" name="Line 11"/>
          <p:cNvSpPr/>
          <p:nvPr/>
        </p:nvSpPr>
        <p:spPr>
          <a:xfrm>
            <a:off x="7086600" y="1447920"/>
            <a:ext cx="0" cy="457200"/>
          </a:xfrm>
          <a:prstGeom prst="line">
            <a:avLst/>
          </a:prstGeom>
          <a:ln w="19080">
            <a:solidFill>
              <a:srgbClr val="4b575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2" name="Line 12"/>
          <p:cNvSpPr/>
          <p:nvPr/>
        </p:nvSpPr>
        <p:spPr>
          <a:xfrm>
            <a:off x="7086600" y="2438280"/>
            <a:ext cx="0" cy="533520"/>
          </a:xfrm>
          <a:prstGeom prst="line">
            <a:avLst/>
          </a:prstGeom>
          <a:ln w="19080">
            <a:solidFill>
              <a:srgbClr val="4b575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3" name="Line 13"/>
          <p:cNvSpPr/>
          <p:nvPr/>
        </p:nvSpPr>
        <p:spPr>
          <a:xfrm>
            <a:off x="7086600" y="3505320"/>
            <a:ext cx="0" cy="457200"/>
          </a:xfrm>
          <a:prstGeom prst="line">
            <a:avLst/>
          </a:prstGeom>
          <a:ln w="19080">
            <a:solidFill>
              <a:srgbClr val="4b575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4" name="Line 14"/>
          <p:cNvSpPr/>
          <p:nvPr/>
        </p:nvSpPr>
        <p:spPr>
          <a:xfrm>
            <a:off x="7086600" y="5029200"/>
            <a:ext cx="0" cy="457200"/>
          </a:xfrm>
          <a:prstGeom prst="line">
            <a:avLst/>
          </a:prstGeom>
          <a:ln w="19080">
            <a:solidFill>
              <a:srgbClr val="4b575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5" name="Line 15"/>
          <p:cNvSpPr/>
          <p:nvPr/>
        </p:nvSpPr>
        <p:spPr>
          <a:xfrm>
            <a:off x="7848720" y="4495680"/>
            <a:ext cx="914400" cy="0"/>
          </a:xfrm>
          <a:prstGeom prst="line">
            <a:avLst/>
          </a:prstGeom>
          <a:ln w="19080">
            <a:solidFill>
              <a:srgbClr val="4b575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6" name="Line 16"/>
          <p:cNvSpPr/>
          <p:nvPr/>
        </p:nvSpPr>
        <p:spPr>
          <a:xfrm flipV="1">
            <a:off x="8763120" y="1142640"/>
            <a:ext cx="0" cy="3352680"/>
          </a:xfrm>
          <a:prstGeom prst="line">
            <a:avLst/>
          </a:prstGeom>
          <a:ln w="19080">
            <a:solidFill>
              <a:srgbClr val="4b575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7" name="Line 17"/>
          <p:cNvSpPr/>
          <p:nvPr/>
        </p:nvSpPr>
        <p:spPr>
          <a:xfrm flipH="1">
            <a:off x="7848720" y="1143000"/>
            <a:ext cx="914400" cy="0"/>
          </a:xfrm>
          <a:prstGeom prst="line">
            <a:avLst/>
          </a:prstGeom>
          <a:ln w="19080">
            <a:solidFill>
              <a:srgbClr val="4b575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8" name="Text Box 18"/>
          <p:cNvSpPr/>
          <p:nvPr/>
        </p:nvSpPr>
        <p:spPr>
          <a:xfrm>
            <a:off x="8003160" y="4114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9" name="Text Box 19"/>
          <p:cNvSpPr/>
          <p:nvPr/>
        </p:nvSpPr>
        <p:spPr>
          <a:xfrm>
            <a:off x="7164720" y="5029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Benefits of Analysi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4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cycles are expensive and time-consuming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alysis reduces the number of design cycl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alysis reduces cost by testing your model using the computer instead of expensive field tes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olidWorks Flow Simulation analysis shortens the object's way to the marke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alysis can help you optimize your designs by quickly simulating many concepts and scenarios before making a final decis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he Finite Volume Method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76212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alytical solutions are only available for simple problems. They make many assumptions and fail to solve most practical problem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olidWorks Flow Simulation solves time-dependent Navier-Stokes equations with the Finite Volume Method (FVM) on a rectangular (parallelepiped) computational mesh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VM is a general approach for both simple and complex problems. This method is among preferred methods for fluid phenomena modeling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omputational Domain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762120" y="1600200"/>
            <a:ext cx="802944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utational domain is a rectangular prism where the calculation is performed. Computational domain’s boundary planes are orthogonal to the Cartesian coordinate system’s ax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 case of an internal problem, the computational domain envelopes the fluid volume inside a model. If heat transfer in walls is considered, the model walls are also includ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 case of an external analysis, the computational domain covers the model's surrounding spac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ypes of Boundary Condi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Velocity, mass flow rate, volume flow rate, or pressure (static and total) boundary conditions are specified at models' inlets and outle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mbient fluid conditions are specified at far-field boundaries in case of external analysi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ns at models' inlets and outlets, as well as inside the computational domain can be specifi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ymmetry boundary conditions, as well as ideal wall can be specified if necessar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ypes of Boundary Condi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following heat boundary conditions can be specified at the model walls in contact with fluid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diabatic wal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all with specified Temperature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all with specified Heat flux or Heat transfer rate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all with specified Heat transfer coefficien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al wall with roughness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deal wall (adiabatic frictionless wall)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ing wall (to simulate translation/rotation of a wall)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in Steps of Analysi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fine type of analysis, physical features, fluids and solid material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pecify boundary condit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fine goals of your analysi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esh the model. This is a series of automatic steps in which the code subdivides the model and computational domain into computational cell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un the analysis. Check convergence if need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Visualize the resul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1:24:32Z</dcterms:created>
  <dc:creator>user</dc:creator>
  <dc:description/>
  <dc:language>en-US</dc:language>
  <cp:lastModifiedBy>sjunghans</cp:lastModifiedBy>
  <dcterms:modified xsi:type="dcterms:W3CDTF">2011-05-25T15:03:19Z</dcterms:modified>
  <cp:revision>192</cp:revision>
  <dc:subject/>
  <dc:title>Presentation Title</dc:title>
</cp:coreProperties>
</file>